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3D56-F8CA-46E5-8443-5C8748079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AC0F-7F37-4F02-9A29-408C580B5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39F2-0965-47B0-9F58-C17108AC7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2634-4FE5-4F0D-A3BE-371C5436A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5C8BE-DE5C-4A2F-81FD-6978573A6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EFB20-7434-4BC0-B456-FEBC1EC22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DA443-3115-47BD-936C-3F2CD1E7C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61849-90D9-4E25-A3BF-97801FE98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83487-9865-4052-BE84-64DC673F6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7C3C7-0CBE-4740-A15A-36C27F064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EA80D-987F-4680-9619-7A53AAA2A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44EE-2A33-41C4-B353-0024BBCB9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1811B-F6F6-4E62-9A83-BE124239F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15A87-76B9-4E31-9618-91D44A273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3719D-B305-49B1-99E7-38981252E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62FAA-CFBF-48A7-850C-9AE8F5617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13329-8DB6-4978-B797-4EE62C5C7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BFEA-03EB-44D8-BE05-6725A0E19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3855-457E-4BE1-8089-98C697360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84DB-1542-4EF7-AA97-AE8C29914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ADE7-FB9E-4CBD-9E53-AD6322C77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7122-D77B-4E21-989A-09C533EE7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9C4D-31BD-41FF-A5DA-FB333CEC9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13A4-3E2B-4AD2-9280-1F43EB284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indent="301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</a:tabLst>
            </a:pPr>
            <a:fld id="{8829EC81-708A-4A6A-8A44-6F769C1947D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920" y="-87840"/>
            <a:ext cx="2426400" cy="2245680"/>
            <a:chOff x="7171920" y="-87840"/>
            <a:chExt cx="2426400" cy="2245680"/>
          </a:xfrm>
        </p:grpSpPr>
        <p:grpSp>
          <p:nvGrpSpPr>
            <p:cNvPr id="39" name=""/>
            <p:cNvGrpSpPr/>
            <p:nvPr/>
          </p:nvGrpSpPr>
          <p:grpSpPr>
            <a:xfrm>
              <a:off x="7171920" y="-87840"/>
              <a:ext cx="2426400" cy="2245680"/>
              <a:chOff x="7171920" y="-87840"/>
              <a:chExt cx="2426400" cy="224568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920" y="-87840"/>
                <a:ext cx="2426400" cy="2245680"/>
                <a:chOff x="7171920" y="-87840"/>
                <a:chExt cx="2426400" cy="224568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264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8640" y="522720"/>
                  <a:ext cx="426240" cy="693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7680" y="283680"/>
                  <a:ext cx="80064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920" y="-31680"/>
                  <a:ext cx="120204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14280" y="1419120"/>
                  <a:ext cx="26820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41560" y="1273680"/>
                  <a:ext cx="28692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2280"/>
                  <a:ext cx="28692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6640" y="219600"/>
                  <a:ext cx="285480" cy="219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"/>
            <p:cNvSpPr/>
            <p:nvPr/>
          </p:nvSpPr>
          <p:spPr>
            <a:xfrm rot="7320000">
              <a:off x="7792920" y="4660560"/>
              <a:ext cx="998640" cy="4651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"/>
            <p:cNvSpPr/>
            <p:nvPr/>
          </p:nvSpPr>
          <p:spPr>
            <a:xfrm rot="7320000">
              <a:off x="7768800" y="4640040"/>
              <a:ext cx="995400" cy="45900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"/>
            <p:cNvSpPr/>
            <p:nvPr/>
          </p:nvSpPr>
          <p:spPr>
            <a:xfrm rot="7320000">
              <a:off x="7937280" y="4626000"/>
              <a:ext cx="660240" cy="419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320000">
                <a:off x="8515080" y="4560480"/>
                <a:ext cx="101520" cy="18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320000">
                <a:off x="8154360" y="4762080"/>
                <a:ext cx="307800" cy="165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indent="301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</a:tabLst>
            </a:pPr>
            <a:fld id="{99C82FF7-DF43-4F39-974E-257F3F32626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Comic Sans MS"/>
              </a:rPr>
              <a:t>Lesson 4  Horses and Rabbi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u=3597879461,3970173672&amp;fm=59.jpg"/>
          <p:cNvPicPr/>
          <p:nvPr/>
        </p:nvPicPr>
        <p:blipFill>
          <a:blip r:embed="rId2"/>
          <a:srcRect l="7808" t="12152" r="10205" b="5859"/>
          <a:stretch/>
        </p:blipFill>
        <p:spPr>
          <a:xfrm>
            <a:off x="468360" y="1766880"/>
            <a:ext cx="8207280" cy="490212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2714760" y="5842080"/>
            <a:ext cx="3357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Comic Sans MS"/>
              </a:rPr>
              <a:t>rabbit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u=3597879461,3970173672&amp;fm=59.jpg"/>
          <p:cNvPicPr/>
          <p:nvPr/>
        </p:nvPicPr>
        <p:blipFill>
          <a:blip r:embed="rId2"/>
          <a:srcRect l="7808" t="12152" r="10205" b="5859"/>
          <a:stretch/>
        </p:blipFill>
        <p:spPr>
          <a:xfrm>
            <a:off x="0" y="1398600"/>
            <a:ext cx="9144000" cy="54594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1143000" y="5842080"/>
            <a:ext cx="7429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Comic Sans MS"/>
              </a:rPr>
              <a:t>Rabbits  can  jump!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1571760" y="928800"/>
            <a:ext cx="578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Can   a   duck   swim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"/>
          <p:cNvSpPr/>
          <p:nvPr/>
        </p:nvSpPr>
        <p:spPr>
          <a:xfrm>
            <a:off x="1571760" y="1785960"/>
            <a:ext cx="678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Yes,it  can! 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/>
          <p:nvPr/>
        </p:nvSpPr>
        <p:spPr>
          <a:xfrm>
            <a:off x="1571760" y="2643120"/>
            <a:ext cx="59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Can   a   fish   fly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"/>
          <p:cNvSpPr/>
          <p:nvPr/>
        </p:nvSpPr>
        <p:spPr>
          <a:xfrm>
            <a:off x="1500120" y="364320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No,it   can’t!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571760" y="928800"/>
            <a:ext cx="578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What   animal   can   fly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"/>
          <p:cNvSpPr/>
          <p:nvPr/>
        </p:nvSpPr>
        <p:spPr>
          <a:xfrm>
            <a:off x="1571760" y="1785960"/>
            <a:ext cx="678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What   animal   can   swim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/>
          <p:cNvSpPr/>
          <p:nvPr/>
        </p:nvSpPr>
        <p:spPr>
          <a:xfrm>
            <a:off x="1571760" y="2643120"/>
            <a:ext cx="59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What   animal   can   run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"/>
          <p:cNvSpPr/>
          <p:nvPr/>
        </p:nvSpPr>
        <p:spPr>
          <a:xfrm>
            <a:off x="1500120" y="364320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What   animal   can   jump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2071800" y="2571840"/>
            <a:ext cx="7072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Comic Sans MS"/>
              </a:rPr>
              <a:t>Do   a    research!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4" name=""/>
          <p:cNvGraphicFramePr/>
          <p:nvPr/>
        </p:nvGraphicFramePr>
        <p:xfrm>
          <a:off x="682560" y="1268280"/>
          <a:ext cx="7691040" cy="3536640"/>
        </p:xfrm>
        <a:graphic>
          <a:graphicData uri="http://schemas.openxmlformats.org/drawingml/2006/table">
            <a:tbl>
              <a:tblPr/>
              <a:tblGrid>
                <a:gridCol w="1538280"/>
                <a:gridCol w="1537920"/>
                <a:gridCol w="1538640"/>
                <a:gridCol w="1537920"/>
                <a:gridCol w="1538280"/>
              </a:tblGrid>
              <a:tr h="9388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nim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f82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l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f82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wi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f82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um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f82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u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f828"/>
                    </a:solidFill>
                  </a:tcPr>
                </a:tc>
              </a:tr>
              <a:tr h="5392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is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f82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f82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f82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f82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f828"/>
                    </a:solidFill>
                  </a:tcPr>
                </a:tc>
              </a:tr>
              <a:tr h="5374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ir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f82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f82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f82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f82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f828"/>
                    </a:solidFill>
                  </a:tcPr>
                </a:tc>
              </a:tr>
              <a:tr h="5392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ors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f82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f82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f82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f82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f828"/>
                    </a:solidFill>
                  </a:tcPr>
                </a:tc>
              </a:tr>
              <a:tr h="981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abbi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f82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f82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f82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f82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f82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u=3259035858,2561268128&amp;fm=23&amp;gp=0.jpg"/>
          <p:cNvPicPr/>
          <p:nvPr/>
        </p:nvPicPr>
        <p:blipFill>
          <a:blip r:embed="rId2"/>
          <a:stretch/>
        </p:blipFill>
        <p:spPr>
          <a:xfrm>
            <a:off x="611280" y="765000"/>
            <a:ext cx="7343640" cy="549936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785880" y="2714760"/>
            <a:ext cx="3571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</a:tabLst>
            </a:pPr>
            <a:r>
              <a:rPr b="0" lang="zh-CN" sz="6600" spc="-1" strike="noStrike">
                <a:solidFill>
                  <a:srgbClr val="bf0000"/>
                </a:solidFill>
                <a:latin typeface="Comic Sans MS"/>
              </a:rPr>
              <a:t>Goodbye!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87280" y="475920"/>
            <a:ext cx="5902560" cy="7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3" name="" descr="u=961598152,2612906646&amp;fm=23&amp;gp=0.jpg"/>
          <p:cNvPicPr/>
          <p:nvPr/>
        </p:nvPicPr>
        <p:blipFill>
          <a:blip r:embed="rId2"/>
          <a:stretch/>
        </p:blipFill>
        <p:spPr>
          <a:xfrm>
            <a:off x="434880" y="385920"/>
            <a:ext cx="8458200" cy="58006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1714680" y="428760"/>
            <a:ext cx="6286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</a:tabLst>
            </a:pPr>
            <a:r>
              <a:rPr b="1" i="1" lang="zh-CN" sz="4400" spc="-1" strike="noStrike">
                <a:solidFill>
                  <a:srgbClr val="7030a0"/>
                </a:solidFill>
                <a:latin typeface="Comic Sans MS"/>
              </a:rPr>
              <a:t>Let’s   sing   a   song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</a:tabLst>
            </a:pPr>
            <a:r>
              <a:rPr b="1" i="1" lang="zh-CN" sz="4400" spc="-1" strike="noStrike">
                <a:solidFill>
                  <a:srgbClr val="7030a0"/>
                </a:solidFill>
                <a:latin typeface="Comic Sans MS"/>
              </a:rPr>
              <a:t>Bingo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" nodeType="withEffect" fill="hold" presetClass="emph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" dur="2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180880" y="3241800"/>
            <a:ext cx="35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omic Sans MS"/>
              </a:rPr>
              <a:t>。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6" name="" descr="u=622956492,453420972&amp;fm=59.jpg"/>
          <p:cNvPicPr/>
          <p:nvPr/>
        </p:nvPicPr>
        <p:blipFill>
          <a:blip r:embed="rId2"/>
          <a:stretch/>
        </p:blipFill>
        <p:spPr>
          <a:xfrm>
            <a:off x="826920" y="549360"/>
            <a:ext cx="7420320" cy="55656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1357200" y="5934240"/>
            <a:ext cx="6357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Comic Sans MS"/>
              </a:rPr>
              <a:t>Fish  can   swim!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u=3651515601,4123512987&amp;fm=59.jpg"/>
          <p:cNvPicPr/>
          <p:nvPr/>
        </p:nvPicPr>
        <p:blipFill>
          <a:blip r:embed="rId2"/>
          <a:srcRect l="0" t="26631" r="10292" b="13575"/>
          <a:stretch/>
        </p:blipFill>
        <p:spPr>
          <a:xfrm>
            <a:off x="117360" y="836640"/>
            <a:ext cx="8918640" cy="594684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785880" y="5934240"/>
            <a:ext cx="657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Comic Sans MS"/>
              </a:rPr>
              <a:t>Birds   can   fiy!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298440" y="324180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1" name="" descr="u=934010511,669563757&amp;fm=23&amp;gp=0.jpg"/>
          <p:cNvPicPr/>
          <p:nvPr/>
        </p:nvPicPr>
        <p:blipFill>
          <a:blip r:embed="rId2"/>
          <a:srcRect l="0" t="3299" r="983" b="0"/>
          <a:stretch/>
        </p:blipFill>
        <p:spPr>
          <a:xfrm>
            <a:off x="250920" y="404640"/>
            <a:ext cx="7448400" cy="63090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857160" y="5643720"/>
            <a:ext cx="6357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Comic Sans MS"/>
              </a:rPr>
              <a:t>The  girl   can   dance!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u=2547334813,867642763&amp;fm=23&amp;gp=0.jpg"/>
          <p:cNvPicPr/>
          <p:nvPr/>
        </p:nvPicPr>
        <p:blipFill>
          <a:blip r:embed="rId2"/>
          <a:srcRect l="36025" t="940" r="0" b="0"/>
          <a:stretch/>
        </p:blipFill>
        <p:spPr>
          <a:xfrm>
            <a:off x="0" y="0"/>
            <a:ext cx="4662360" cy="68580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4572000" y="2781360"/>
            <a:ext cx="4032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Comic Sans MS"/>
              </a:rPr>
              <a:t>The  boy  can sing!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785880" y="1214280"/>
            <a:ext cx="7602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</a:tabLst>
            </a:pPr>
            <a:r>
              <a:rPr b="1" i="1" lang="zh-CN" sz="4400" spc="-1" strike="noStrike">
                <a:solidFill>
                  <a:srgbClr val="000000"/>
                </a:solidFill>
                <a:latin typeface="Comic Sans MS"/>
              </a:rPr>
              <a:t>What   can   you   do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"/>
          <p:cNvSpPr/>
          <p:nvPr/>
        </p:nvSpPr>
        <p:spPr>
          <a:xfrm>
            <a:off x="571680" y="3500280"/>
            <a:ext cx="7240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</a:tabLst>
            </a:pPr>
            <a:r>
              <a:rPr b="1" i="1" lang="zh-CN" sz="4400" spc="-1" strike="noStrike">
                <a:solidFill>
                  <a:srgbClr val="000000"/>
                </a:solidFill>
                <a:latin typeface="Comic Sans MS"/>
              </a:rPr>
              <a:t>I    can…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2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u=2350168839,2411130290&amp;fm=23&amp;gp=0.jpg"/>
          <p:cNvPicPr/>
          <p:nvPr/>
        </p:nvPicPr>
        <p:blipFill>
          <a:blip r:embed="rId2"/>
          <a:srcRect l="0" t="0" r="10605" b="-87"/>
          <a:stretch/>
        </p:blipFill>
        <p:spPr>
          <a:xfrm>
            <a:off x="826920" y="176040"/>
            <a:ext cx="7490160" cy="6277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3143160" y="5214960"/>
            <a:ext cx="3500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Comic Sans MS"/>
              </a:rPr>
              <a:t>horse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u=2350168839,2411130290&amp;fm=23&amp;gp=0.jpg"/>
          <p:cNvPicPr/>
          <p:nvPr/>
        </p:nvPicPr>
        <p:blipFill>
          <a:blip r:embed="rId2"/>
          <a:srcRect l="0" t="0" r="10605" b="-87"/>
          <a:stretch/>
        </p:blipFill>
        <p:spPr>
          <a:xfrm>
            <a:off x="395280" y="0"/>
            <a:ext cx="8353440" cy="676908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714240" y="4789440"/>
            <a:ext cx="8215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Comic Sans MS"/>
              </a:rPr>
              <a:t>Horses  can  run!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1T05:43:05Z</dcterms:created>
  <dc:creator> </dc:creator>
  <dc:description> </dc:description>
  <cp:keywords/>
  <dc:language>en-US</dc:language>
  <cp:lastModifiedBy>acer1</cp:lastModifiedBy>
  <dcterms:modified xsi:type="dcterms:W3CDTF">2015-09-21T09:03:10Z</dcterms:modified>
  <cp:revision>0</cp:revision>
  <dc:subject> </dc:subject>
  <dc:title> </dc:title>
</cp:coreProperties>
</file>